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96776"/>
        <c:axId val="76221680"/>
      </c:barChart>
      <c:catAx>
        <c:axId val="98096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21680"/>
        <c:crosses val="autoZero"/>
        <c:auto val="1"/>
        <c:lblAlgn val="ctr"/>
        <c:lblOffset val="100"/>
        <c:noMultiLvlLbl val="0"/>
      </c:catAx>
      <c:valAx>
        <c:axId val="76221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96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8FE-9905-434D-823B-47EEF5E5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8BD-30ED-4E5A-AD47-9818A2E4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919-2492-4561-B0AF-A655FB3E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926-07FA-4AA0-BFC4-15D3933A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D3C-AAA2-4555-AB05-B8D5BB80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D6F-ACFE-4739-8ACE-A91C2D04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892-FC3E-4219-B937-DB1BB4AF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BB1-DDE0-4B1B-B8CC-96652734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F83-261A-41F9-B3B6-57BB4604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6D8-9B6F-4DF9-883D-6D5C7E0F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7F6-017F-414E-92CF-321AA6AF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827-A2F5-42CF-A957-16E548D8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15B17-999D-46C3-9AE8-5A7B7E40B6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